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551440"/>
            <a:ext cx="30672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08240" y="8551440"/>
            <a:ext cx="30668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AF5070-51E0-4C4D-BDC6-09D10662137F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6C7163-771B-4230-A464-78496FF18AEE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C28D-30E1-4968-AC2D-4FCAF10F8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5AC4-C5EC-4995-AA32-96D9C8B6F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BFEC-C48F-4645-B70E-2DA04DC43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488F-FA3C-4981-90E6-98052AA20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0403-440B-4666-89C2-DD9BC7A68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7042-D08F-4FDB-882B-D668E9A2A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5F57-BD32-4BF0-AF7B-4DC34CE12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492B-ABA2-4777-9BCB-2B5F04EB2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814C-47F7-4A3D-9447-BF759AB77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A10F-0892-4F66-9BAC-75213B5E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12F4-EC20-40B4-9E29-CEE06757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38A7-4603-4562-B075-4A6573FF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A1012F-C443-4A17-AA97-A87B045A88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0C3B8B-112A-4BA0-9058-0DA95B6189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yeacargyle@nationalcapitalregionymca-ywca.ca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yeacmerivale@nationalcapitalregionymca-ywca.ca" TargetMode="External"/><Relationship Id="rId3" Type="http://schemas.openxmlformats.org/officeDocument/2006/relationships/hyperlink" Target="http://www.ymca-ywca.ca/" TargetMode="Externa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OpeningSlide_forEEN.jpg"/>
          <p:cNvPicPr/>
          <p:nvPr/>
        </p:nvPicPr>
        <p:blipFill>
          <a:blip r:embed="rId1"/>
          <a:stretch/>
        </p:blipFill>
        <p:spPr>
          <a:xfrm>
            <a:off x="-4680" y="0"/>
            <a:ext cx="9196200" cy="69105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4476600" y="4689360"/>
            <a:ext cx="454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eorgia"/>
              </a:rPr>
              <a:t>Y Employment Access Cent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Georgia"/>
              </a:rPr>
              <a:t>Last revised October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ource Centre works on a walk-in ba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or email to register for workshop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an Employment Consultant available for drop-in intakes everyday on a first-come first-served ba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loyment Consultants will refer clients to the most appropriate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possible to set up specific appointments by phone or e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How to Register or Re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352440" y="1676520"/>
            <a:ext cx="6305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Formal Referr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352440" y="1676520"/>
            <a:ext cx="6305400" cy="48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Georgia"/>
              </a:rPr>
              <a:t>YEAC makes official referrals to the following programs/agenc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OSEB-Ontario Self Employment Benefits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JCP-Job Creation Partnerships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SC-Second Career / FeePayer / Long Tenured Wor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The Practice Firms (Experica or Canada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LBS-Literacy and Basic Skil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Acclaim Ability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Ontario March of D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auseway Work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anadian Hearing Society (Job Develop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Job Matching, Placement &amp; Incen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352440" y="1676520"/>
            <a:ext cx="6305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ndividual support from a Job Developer with job search, networking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Georgia"/>
              </a:rPr>
              <a:t>Information on Health and Safety in the workplace and Workers’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Help matching job seekers’ skills and interests with job opport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upport with securing apprenticeshi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Georgia"/>
              </a:rPr>
              <a:t>Possibility of Apprenticeship scholar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Georgia"/>
              </a:rPr>
              <a:t>Possibility of on-the-job training pla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Georgia"/>
              </a:rPr>
              <a:t>Help with identifying and resolving workplace barr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Job/Training Ret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352440" y="2108160"/>
            <a:ext cx="6305400" cy="49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eorgia"/>
              </a:rPr>
              <a:t>Support for long-term attachment or advancement in the labour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eorgia"/>
              </a:rPr>
              <a:t>Access to mentors and co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eorgia"/>
              </a:rPr>
              <a:t>Monitoring of mentor/coach relatio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eorgia"/>
              </a:rPr>
              <a:t>Development of a support plan to enhance employability and job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eorgia"/>
              </a:rPr>
              <a:t>Monitoring and follow-up of work pla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4"/>
          <p:cNvSpPr/>
          <p:nvPr/>
        </p:nvSpPr>
        <p:spPr>
          <a:xfrm>
            <a:off x="123840" y="533520"/>
            <a:ext cx="854064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Services for Employ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352440" y="2108160"/>
            <a:ext cx="63054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ba99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352440" y="1676520"/>
            <a:ext cx="6175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ree distribution and advertisement of job posting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re-screened candidates for pos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ensitivity and diversity trai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ossible wage/training subsidy for new h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Matching of appren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ossibility of Apprenticeship Signing Bon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Monitoring of placements during/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ime and money sa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pace for hosting of information sessions or intervi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articipation in large Career F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Location and Ho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352440" y="2108160"/>
            <a:ext cx="63054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ba99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352440" y="1814400"/>
            <a:ext cx="6175440" cy="41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Central Ottawa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180 Argyle Avenue, 4th Flo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Tel: 613-788-5001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Georgia"/>
                <a:hlinkClick r:id="rId2"/>
              </a:rPr>
              <a:t>yeacargyle@nationalcapitalregionymca-ywca.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www.ymcaywca.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Monday-Tuesday ~ 8:30 am - 4:30 p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Wednesday-Thursday ~ 8:30 am - 7:00 p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Friday ~ 8:30 am - 4:00 p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Location and Ho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352440" y="2108160"/>
            <a:ext cx="63054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ba99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52440" y="1814400"/>
            <a:ext cx="6458040" cy="47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West Ottawa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Merivale Mall, 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Georgia"/>
              </a:rPr>
              <a:t>nd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Flo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Tel: 613-688-21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Georgia"/>
                <a:hlinkClick r:id="rId2"/>
              </a:rPr>
              <a:t>yeacmerivale@nationalcapitalregionymca-ywca.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Georgia"/>
                <a:hlinkClick r:id="rId3"/>
              </a:rPr>
              <a:t>www.ymca-ywca.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Monday-Tuesday ~ 8:30 am – 7:00 p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Wednesday-Thursday ~ 8:30 am – 4:30 p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Friday ~ 8:30 am – 4:00 p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*Note: This temporary location will officially open November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eorgi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Other EEN Pr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352440" y="2108160"/>
            <a:ext cx="630540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nterprise Centr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Ontario Self-Employment Benefit Program (SE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ederal Public Sector Youth Internship Program (FPSYI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Youth Gambling Awareness Project (YGA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Language Assessment and Referral Centre (LAR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Newcomer Information Centre (N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mployment Counselling Centers (YEC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Georgia"/>
              </a:rPr>
              <a:t>Kanata Employment Resource Centre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(KER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ba99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Ontario Self Employment Benefit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352440" y="2108160"/>
            <a:ext cx="63054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ba99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352440" y="1790640"/>
            <a:ext cx="63054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inancial assistance provided to eligible participants for a fixed period of time while starting a new 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ccess to business related seminars and one-on-one support from a business consulta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Referral required, possible through the YE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-276120" y="-1332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Federal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 Public Sector Youth Internship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352440" y="2108160"/>
            <a:ext cx="63054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ba99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76320" y="1798560"/>
            <a:ext cx="632448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Gain practical work experience through a paid internship and placement with a mentor for youth within the Federal govern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ceive one-on-one support from an Employment Counsellor during the inter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he National Capital Region YMCA-YWCA is a charitable, voluntary, community based association dedicated to improving the quality of life for children, youth, adults and families through programs that build spirit, mind and 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he National Capital Region YMCA-YWCA provides opportunities for personal growth and character development by providing unique and contemporary programs for everyone regardless of race, religion, creed, ability or economic circumst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eorgia"/>
              </a:rPr>
              <a:t>The </a:t>
            </a: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YMCA-YWCA</a:t>
            </a:r>
            <a:r>
              <a:rPr b="1" lang="en-US" sz="4000" spc="-1" strike="noStrike">
                <a:solidFill>
                  <a:srgbClr val="ffffff"/>
                </a:solidFill>
                <a:latin typeface="Georgia"/>
              </a:rPr>
              <a:t> Mi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-276120" y="-1332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Kanata Employment Resource Cen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352440" y="2108160"/>
            <a:ext cx="63054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ba99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76320" y="1798560"/>
            <a:ext cx="6324480" cy="40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mployment resource centre with information on labour market, apprenticeships, retraining and community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orkshops facilitated include Resume Writing, Job Search and Interview Techniques along with Employer Information S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-276120" y="-1332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Language Assessment &amp; Referral Cen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352440" y="2108160"/>
            <a:ext cx="63054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ba99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76320" y="1798560"/>
            <a:ext cx="6324480" cy="43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Language Assessments in English or French, based on the Canadian Language Benchmarks (CL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Referrals to language training in English or French, such as LINC/CLIC (Language Instruction for Newcomers to Canada), ELT/CLNA (Enhanced Language Training) and OSLT/FLAP (Occupation Specific Language Train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Depending on eligibility, access to FREE childcare, transportation allowance, full time and part time classes, beginner to advanced levels as well as employment focused language training and progra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-276120" y="-1332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Newcomer Information Cen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352440" y="2108160"/>
            <a:ext cx="63054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ba99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76320" y="1798560"/>
            <a:ext cx="6324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ba995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76320" y="1935000"/>
            <a:ext cx="6324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nformation and referral services for newcomers to Can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Resource Centre with access to computers, community information, events and 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Multilingual staff and community settlement specialists on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Various workshops and information sessions facilitated by NIC staff, community partners and leaders, professional associations and employ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-276120" y="-1332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Youth Gambling Awareness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352440" y="2108160"/>
            <a:ext cx="63054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ba99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76320" y="1798560"/>
            <a:ext cx="6324480" cy="40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revention and education programs to help promote  awareness of possible harm associated with gamb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mmunity awareness outreach in various set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ferral to treatment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-276120" y="-1332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eorgia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352440" y="2108160"/>
            <a:ext cx="63054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ba99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76320" y="1798560"/>
            <a:ext cx="6324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ba995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MPj04395360000[1]"/>
          <p:cNvPicPr/>
          <p:nvPr/>
        </p:nvPicPr>
        <p:blipFill>
          <a:blip r:embed="rId2"/>
          <a:stretch/>
        </p:blipFill>
        <p:spPr>
          <a:xfrm>
            <a:off x="733320" y="2679840"/>
            <a:ext cx="5257800" cy="28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-276120" y="-1332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eorgia"/>
              </a:rPr>
              <a:t>Thank You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352440" y="2108160"/>
            <a:ext cx="63054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ba99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76320" y="1798560"/>
            <a:ext cx="6324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ba995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8" descr="YSigColour-BilPC"/>
          <p:cNvPicPr/>
          <p:nvPr/>
        </p:nvPicPr>
        <p:blipFill>
          <a:blip r:embed="rId2"/>
          <a:stretch/>
        </p:blipFill>
        <p:spPr>
          <a:xfrm>
            <a:off x="352440" y="2108160"/>
            <a:ext cx="5821200" cy="1511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BW-Tag"/>
          <p:cNvPicPr/>
          <p:nvPr/>
        </p:nvPicPr>
        <p:blipFill>
          <a:blip r:embed="rId3"/>
          <a:stretch/>
        </p:blipFill>
        <p:spPr>
          <a:xfrm>
            <a:off x="1266840" y="4292640"/>
            <a:ext cx="352440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ounded in Ottawa in 18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YMCA &amp; YWCA amalgamated in 19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rovider of licensed child care since 1890 – largest in Cana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n 1942 started Carleton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ounding member of United 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irst to introduce residence camping in Eastern On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mployment Counselling Centres open in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Job Connects opens in 2005 at NCR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CC and JC fuse and become YEAC in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YMCA-YWCA His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Y Employment Enterprise and Newcomer Services (E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281160" y="1809720"/>
            <a:ext cx="634824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mployment Access Centres (EA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nterprise Centr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Ontario Self-Employment Benefit Program (SE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ederal Public Sector Youth Internship Program (FPSYI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Georgia"/>
              </a:rPr>
              <a:t>Kanata Employment Resource Centre (KER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Language Assessment and Referral Centre (LAR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Newcomer Information Centre (N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Youth Gambling Awareness Project (YGA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buClr>
                <a:srgbClr val="ba995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What is the Y Employment Access Cent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352440" y="1979640"/>
            <a:ext cx="6175440" cy="49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YEAC is an employment program that offers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FREE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ervices to job seekers and emplo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YEAC is an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Employment Ontario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program funded by the Ontario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ffers a variety of interventions to assist Ontarians with obtaining sustainable em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rovides various services to employers who are licensed to operate in On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The Components of Employme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352440" y="2108160"/>
            <a:ext cx="63435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) Information &amp; Referr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2) Job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3) Job Matching, Placement &amp; Incen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4) Job/Training Reten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Information &amp; Referral (I&amp;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352440" y="2108160"/>
            <a:ext cx="6305400" cy="51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Free public resource centr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Access to current job posting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Computers with Internet access and résumé softwa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Faxing, printing, phone and photocopier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Various employment related worksho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Apprenticeship program inform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Information and referral to various community program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Resumé critiquing and interview prepar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Participation in large Career Fai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Distribution of job postings by emai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*there is no eligibility criteria for these serv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Job Search/Employment Consul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352440" y="2108160"/>
            <a:ext cx="6305400" cy="39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eorgia"/>
              </a:rPr>
              <a:t>Eligibility Criter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eorgia"/>
              </a:rPr>
              <a:t>Not in full-time school/training (more than 20 hours/wee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Unemployed or working less than 20 hours/w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ligible to work in Ca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eorgia"/>
              </a:rPr>
              <a:t>Resident of On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Job 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352440" y="1676520"/>
            <a:ext cx="630540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Individualized support and meetings with an Employment Consultan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Assistance and coaching in resumé development, job search and networking strategies, interview preparation, career exploration and mo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Clarification on employment and training need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Establish short and long term goal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Develop an Employment Service Plan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Support and referral with Second Career and other funded MTCU program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Access to the Ottawa Job Match Network*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*for those who qualif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8T14:50:59Z</dcterms:created>
  <dc:creator>Andrew Jordan</dc:creator>
  <dc:description/>
  <dc:language>en-US</dc:language>
  <cp:lastModifiedBy>aholmes</cp:lastModifiedBy>
  <dcterms:modified xsi:type="dcterms:W3CDTF">2011-07-08T18:57:31Z</dcterms:modified>
  <cp:revision>22</cp:revision>
  <dc:subject/>
  <dc:title>Slide 1</dc:title>
</cp:coreProperties>
</file>